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8C2-CE83-4810-A758-1C01F320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63D3-D47E-4628-B012-34A577FE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489C-7962-45E2-B4D8-9C7E3F7E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FF6-EBD9-4230-ADE2-EB42865E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C4B9-5B56-4C74-A581-FA7CB3DA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6B8F-8A6B-408E-AA94-C833CA1E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5A42-5E05-484E-836B-884E60C5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875E-2622-4A51-999F-73E33189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F8F2-2B3B-4BD3-A4FA-CF8E654B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3DFF-9C5C-4026-8298-0F41D1EA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52A6-BB95-4C40-A5F3-D257EE35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2F7-80AF-4C86-9A65-514BEC7F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A555-5B30-4A54-9272-EC067CE1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E443-56A4-44E9-B01F-C35D8263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A3D6-9B6E-4352-B915-7E43D7AD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E6AE-E542-4827-908B-D593161B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7E5A-BD87-4948-B78B-D4DE021C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8DD-27C3-42F7-862C-33959931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B23-7AEA-4A5B-A353-AD04888D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2D6-0263-4036-93BC-93801BDC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D6A8-3D94-4340-A772-DEFFDAC0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14D-CA77-47A4-A7D3-B4759063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2536-5732-417B-BB2A-7D0BC897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F05-E5BA-4F0D-A409-A0E47C29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4C86-87C9-42A3-BA8C-DAA9713AC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DC61-FCB5-4D7A-B3CB-E53012EF55B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十一章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管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事考核的方法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物比较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素分析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量考核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综合考评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考试评议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三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培训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员工培训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战略性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以致用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人施教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内容结构合理化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员工教育培训的内容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技术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高级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员工培训的方法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务转换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研究讨论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职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校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四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员激励机制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激励是指挖掘人的潜力，充分调动人的积极性。在现代公司管理制度中，应该重视对职工的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公司的激励手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种是物质激励，另一种是精神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部门在采取激励措施时还必须注意以下几点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将物质激励和精神激励相结合，采用恰当的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组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不同时期、不同环境条件下，对不同的员工要区别对待，灵活激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措施要公正，要以客观事实为依据，恰如其分地进行激励，对公司的每一个员工都要一视同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五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劳动工资管理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的劳动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劳动分工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劳动协作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额定编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一节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概述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工资福利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员工的劳动报酬分两部分，一部分是直接的金钱报酬，包括工资、奖金、津贴；另一部分是间接的报酬，也就是职工的福利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280" y="404280"/>
            <a:ext cx="820908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复习思考题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力资源管理的主要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人力资源管理应遵循哪些原则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事考核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员工培训的基本原则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员工培训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有哪几种类型？保险公司在采取激励机制时应注意哪些问题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劳动管理的主要内容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力资源管理的概念与任务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的基本任务是根据保险公司发展战略的要求，通过有计划地对人力资源进行合理配置，加强公司员工的教育培训和人力资源的开发，推动整个保险公司各项工作的开展，确保保险公司战略目标的实现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人力资源管理的内容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规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招聘、选择和人事安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结构的合理配置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教育、培训和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工作评价和考核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事业生涯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资福利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力资源管理的原则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时须遵循以下几个原则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协调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任人唯贤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能位相宜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群体合力和互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态适应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四、加强人力资源管理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提高保险公司的劳动效率和经济效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保险公司职工的全面发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有利于建立现代保险公司制度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二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事绩效考核的功能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础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导向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督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人事绩效考核的内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的主要内容有：德、能、勤、绩四个方面，以绩为重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6:08:57Z</dcterms:modified>
  <cp:revision>55</cp:revision>
  <dc:subject/>
  <dc:title>没有幻灯片标题</dc:title>
</cp:coreProperties>
</file>